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5D6-6039-4745-ABC6-64A986D9E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388-281F-4B45-A13E-9527E2A1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F48-85CB-426C-98B0-54D69AC1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B948-BAD9-4A28-B991-EE8060B5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A6D-C55F-4641-9EE8-CBC55C4B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3ED-0609-4DCE-85BB-F10C9959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3F6-FF2D-4209-BFF3-15FB17A0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599-E9A0-4A88-BD9B-12AAF297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482-0515-415F-84D9-2B6EF5BF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43E5-6542-4918-A8C5-D5243E8E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D33-DA42-4C73-8347-31F81F8A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D347-F1F2-4D0C-835C-9E2CFD57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A8CA-7FA3-48A8-8CF7-C2C74301E77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evolucion-industrial.wikispaces.com/contar+algunas+situaciones+de+explotaci&#243;n+infantiles+y+juveniles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hyperlink" Target="http://www.voki.com/" TargetMode="External"/><Relationship Id="rId5" Type="http://schemas.openxmlformats.org/officeDocument/2006/relationships/hyperlink" Target="http://www.slideshare.net/AnaBasterra/voki-copia" TargetMode="External"/><Relationship Id="rId6" Type="http://schemas.openxmlformats.org/officeDocument/2006/relationships/hyperlink" Target="http://revolucion-industrial.wikispaces.com/file/view/Informaci&#243;n%20escrita%20para%20crear%20mis%20personajes.doc/356042496/Informaci&#243;n%20escrita%20para%20crear%20mis%20personajes.doc" TargetMode="External"/><Relationship Id="rId7" Type="http://schemas.openxmlformats.org/officeDocument/2006/relationships/hyperlink" Target="http://revolucion-industrial.wikispaces.com/file/view/MI%20DIARIO%20DE%20APRENDIZAJE.doc/383179572/MI%20DIARIO%20DE%20APRENDIZAJE.doc" TargetMode="External"/><Relationship Id="rId8" Type="http://schemas.openxmlformats.org/officeDocument/2006/relationships/hyperlink" Target="http://revolucion-industrial.wikispaces.com/file/view/Texto%20Antes%20de%20empezar.doc/356050700/Texto%20Antes%20de%20empezar.doc" TargetMode="External"/><Relationship Id="rId9" Type="http://schemas.openxmlformats.org/officeDocument/2006/relationships/hyperlink" Target="http://revolucion-industrial.wikispaces.com/file/view/CREAMOS%20NUESTROS%20PERSONAJES%20Y%20LES%20PONEMOS%20VOZ.doc/356046170/CREAMOS%20NUESTROS%20PERSONAJES%20Y%20LES%20PONEMOS%20VOZ.doc" TargetMode="External"/><Relationship Id="rId10" Type="http://schemas.openxmlformats.org/officeDocument/2006/relationships/hyperlink" Target="http://www.slideshare.net/AnaBasterra/voki-copia" TargetMode="External"/><Relationship Id="rId11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2" Type="http://schemas.openxmlformats.org/officeDocument/2006/relationships/hyperlink" Target="http://revolucion-industrial.wikispaces.com/file/view/PARA%20EVALUAR%20LA%20EXPOSICI&#211;N%20ORAL%203&#170;%20tarea.doc/364961288/PARA%20EVALUAR%20LA%20EXPOSICI&#211;N%20ORAL%203&#170;%20tarea.doc" TargetMode="External"/><Relationship Id="rId13" Type="http://schemas.openxmlformats.org/officeDocument/2006/relationships/hyperlink" Target="http://revolucion-industrial.wikispaces.com/file/view/PLANTILLA%20DE%20EVALUACI&#211;N%20PERSONAJES.doc/397542844/PLANTILLA%20DE%20EVALUACI&#211;N%20PERSONAJES.doc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REA: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 Utilizando diferentes avatares,</a:t>
            </a:r>
            <a:r>
              <a:rPr b="1" lang="es-E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ntamos situaciones de explotación infantil y juvenil en el siglo XX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vokipic"/>
          <p:cNvPicPr/>
          <p:nvPr/>
        </p:nvPicPr>
        <p:blipFill>
          <a:blip r:embed="rId2"/>
          <a:stretch/>
        </p:blipFill>
        <p:spPr>
          <a:xfrm>
            <a:off x="0" y="907920"/>
            <a:ext cx="2371680" cy="310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voki-girl"/>
          <p:cNvPicPr/>
          <p:nvPr/>
        </p:nvPicPr>
        <p:blipFill>
          <a:blip r:embed="rId3"/>
          <a:stretch/>
        </p:blipFill>
        <p:spPr>
          <a:xfrm>
            <a:off x="0" y="3963960"/>
            <a:ext cx="2155680" cy="28940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9"/>
          <p:cNvSpPr/>
          <p:nvPr/>
        </p:nvSpPr>
        <p:spPr>
          <a:xfrm>
            <a:off x="2340000" y="1087560"/>
            <a:ext cx="6553080" cy="520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La actividad puede ser individual o en pare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1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ocemos la aplicación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VOKI y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brimos una cuenta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Tuto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2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scamos información en Internet para poner voz a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lantilla para recoger la información escri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3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lto en el camino. Escribimos en nuestro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diario de aprendiza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4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ensamos en qué personajes vamos a crear y les ponemos voz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Orientacion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lantilla para crear los personajes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tutorial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crear los personajes y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lantilla de evaluación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ra la exposición o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5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reamos nuestros personajes. </a:t>
            </a:r>
            <a:r>
              <a:rPr b="0" lang="es-ES" sz="1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Plantilla de evalu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00000"/>
                </a:solidFill>
                <a:latin typeface="Calibri"/>
              </a:rPr>
              <a:t>ACTIVIDAD 6:</a:t>
            </a:r>
            <a:r>
              <a:rPr b="0" lang="es-ES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resentamos nuestros personajes a los compañeros. Plantilla de evaluación de exposición o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2484360" y="5877000"/>
            <a:ext cx="3167280" cy="132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ste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6 CuadroTexto"/>
          <p:cNvSpPr/>
          <p:nvPr/>
        </p:nvSpPr>
        <p:spPr>
          <a:xfrm>
            <a:off x="4643280" y="602136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os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7 CuadroTexto"/>
          <p:cNvSpPr/>
          <p:nvPr/>
        </p:nvSpPr>
        <p:spPr>
          <a:xfrm>
            <a:off x="5940360" y="595008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2º ESO Instituto de Astrabud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1:41Z</dcterms:created>
  <dc:creator>Mari</dc:creator>
  <dc:description/>
  <dc:language>en-US</dc:language>
  <cp:lastModifiedBy>Mari</cp:lastModifiedBy>
  <dcterms:modified xsi:type="dcterms:W3CDTF">2015-04-21T19:21:05Z</dcterms:modified>
  <cp:revision>1</cp:revision>
  <dc:subject/>
  <dc:title>Diapositiva 1</dc:title>
</cp:coreProperties>
</file>